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B9F1-DB51-440B-8510-F735DFBBF52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EE6B-4977-4774-AD5E-4170949AE5D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85AA-6B7B-4C6C-B49A-5AAC73C14E7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FD7F-511C-4337-BF8B-750230F8BDC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8791-3C84-4160-B8A4-493D008B60D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075E-2FD8-44AD-9736-16B64BC873E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9875-FE28-4385-8BBB-217B866780F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49F6-DDB6-4A89-8786-9D64281A403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231D-2A35-46B1-BA22-DCF586E55FC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F682-AEEB-4B49-A89C-14AF9DFBBE6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ACD2-6FF6-459F-803E-55769600114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9711-D19C-41C4-A279-349F0CC9D4A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3D4B-4880-46F0-9921-3CD8045B5CF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8199-C4D2-4353-9CCC-6DD272B0486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5C16-C0A6-4E2B-9579-BFF580AF9AD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03F4-CD15-4830-A6E7-06CFF6DDE5A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5657-D3CA-47A2-9C1E-9A9A4F34C5F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74E8-DA1C-4E0F-84E0-D475E2E9109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3D38-DFDB-4C0B-9DCA-F17EEE3E284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FD0F-FA8F-460E-AEBD-9C3458E19EC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990A-5C73-4C3E-A6C5-F0BC15BC5AE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356E-8198-41EA-BEA2-5FE4B56C6E2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1674-CC52-49BD-914A-42167FA2E25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3319-E7DB-4FE5-A81D-7F7811A3EC9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5FCE-02D8-42D0-B3F1-0C606C60DEE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70E2-2C3D-4B99-9C71-516D70C751A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2D87-FFE5-4BC3-907B-0D592059250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30F2-C326-4498-9D01-5AED78F9DCA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73EB-427A-4C54-936B-27A6B11CA6B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178F-DB99-4A03-ADFB-339BF9EF0F5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6DCE-CB0A-487D-9E44-3EA55958645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55C0-E7F4-4D11-B11F-FB8FD259B4F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AEDF-FD4A-4E55-8B69-3ED617B48F9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DA3A-BE76-44C0-8845-5F6D330E579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79C6-7C09-431F-B6BD-D2BA37F1D55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FD0E-06A2-4B97-B28A-A735A726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71B9-E65E-48B8-B240-A4F05E8C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8D05-3940-428F-9480-BC5EB51D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BA86-1B01-4959-9728-46CAC49D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08F5-7C29-4ADB-8EF3-62E17926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85E1-9318-4B6D-AA60-DBDCF769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8C9B-2CEA-4A65-AEB1-25CE64C2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2755-5E06-4083-BC41-08A3C4A7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C434-2D8F-4B37-BD5A-A32113C6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6D58-C75C-40C6-A176-7B7900E1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6C30-4DFF-4826-BB30-CA90DEDD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F248-7EF5-45B0-A47A-72DAD6A1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0C8A-6709-498E-85AD-228BD5FEB804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家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2095200" y="6389640"/>
            <a:ext cx="28112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ā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집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姐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ěji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언니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누나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没有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éiyǒ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없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명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孩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áiz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아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儿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érz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아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女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ǚ'é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ē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정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可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ě'à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귀엽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这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64668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zh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이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이것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妹妹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64668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mèime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여동생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有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1844640" y="6389640"/>
            <a:ext cx="3240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ǒ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있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u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살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ū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책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历史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ìshǐ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역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多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uō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얼마나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大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à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크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年纪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iánj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나이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연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爷爷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éy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할아버지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奶奶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ǎina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할머니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姥爷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ǎoy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외할아버지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姥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ǎola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외할머니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几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1844640" y="6389640"/>
            <a:ext cx="3240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ǐ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몇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叔叔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ūsh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삼촌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漂亮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piàolia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예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帅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uà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멋지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年级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iánj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학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高中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gāozhō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고등학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口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1844640" y="6389640"/>
            <a:ext cx="3240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ǒ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식구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양사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1412640" y="6389640"/>
            <a:ext cx="3816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é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누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爸爸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àba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아빠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妈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āma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엄마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弟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ìd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남동생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和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é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와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과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4T02:35:48Z</dcterms:created>
  <dc:creator>System</dc:creator>
  <dc:description/>
  <dc:language>en-US</dc:language>
  <cp:lastModifiedBy>System</cp:lastModifiedBy>
  <dcterms:modified xsi:type="dcterms:W3CDTF">2014-01-24T03:05:50Z</dcterms:modified>
  <cp:revision>3</cp:revision>
  <dc:subject/>
  <dc:title>슬라이드 1</dc:title>
</cp:coreProperties>
</file>